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7.wmf" ContentType="image/x-wmf"/>
  <Override PartName="/ppt/media/image5.png" ContentType="image/png"/>
  <Override PartName="/ppt/media/image6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D1EB-A081-47AA-94F3-254BB693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BAFA-F227-46D9-AEA9-319A0D65CC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088-68EF-4A96-97A4-33692372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7CE-95D2-4284-A456-1C145D7C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B24-83B2-46AF-AF66-CD466873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BE9-5040-4FB7-A9A3-9FABC36B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735-9757-4928-8006-9548D57C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B4E-58C9-4E4C-9099-56385354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EC0-1B74-4155-841F-C824E3D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DB3-D996-416E-9F65-B2F97C98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CBE-4FFA-42B9-9C67-A8754D8B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19B-F8A9-488E-9F14-C3212E3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AC9-E91D-4A4F-BB6D-9D5DFDA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2ED-16F7-4A14-BD8C-F307F37A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CA49-EF97-46E9-8F85-EF7998D0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2280" y="668160"/>
            <a:ext cx="8763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swer Questions 1-5 of the Newton’s Textbook Assignme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</a:rPr>
              <a:t>Use Textbook Pages 48-49 to help find your answ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12576" r="0" b="33865"/>
          <a:stretch/>
        </p:blipFill>
        <p:spPr>
          <a:xfrm>
            <a:off x="2057400" y="5334120"/>
            <a:ext cx="4556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ewton’s 3</a:t>
            </a:r>
            <a:r>
              <a:rPr b="1" lang="en-US" sz="7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67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Newton’s Third L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f one object exerts a force on another object, then the second object exerts a force of equal strength in the opposite direction on the first objec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Action/React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05A-9A5F-4919-AF56-B06A1DEE5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In other word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For every action there is an equal but opposite reactio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C0B-2866-4884-B6BD-80FCA80C32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Newton’s Third L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one object exerts a force on another object, then the second object exerts a force of equal strength in the opposite direction on the firs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Action/Re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82E-622F-4F8E-A216-C0406D64BB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304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129760"/>
            <a:ext cx="8839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ewton’s 3 Laws of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Law Examp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12960" cy="1352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assoonPrimaryType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SassoonPrimaryType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SassoonPrimaryType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SassoonPrimaryType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080" y="1447920"/>
            <a:ext cx="8762760" cy="3047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89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little mass and little acceleration will have littl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a large mass and small acceleration can exert a large amount of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small mass and large acceleration can exert a large amount of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a large mass and large acceleration will exert a littl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54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Textbook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Textbook Assignment Questions 6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Notes and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ton’s Laws of Motio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Force, Mass, and Acceleration rel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3C9DEB4B-9D0A-42A6-9740-B22A89FF01F7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and collect data from multiple trials, about the motion that results when the same force acts on objects of different mass and what happens when a large or a small force acts on objects of the same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Question 2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ewton’s 3 Laws of Mo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Newton’s First L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 object at rest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ays at re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unless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rc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ct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 object in motion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ays in mo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unless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rc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ct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(LAW OF INERTI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 Examp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885-5D6C-4DDE-AFC5-D9BA16CA6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ext pages 52-54 and complet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column and questions 6 &amp;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ext pages 64-66 and complet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column and questions 8 &amp;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examples of Newton’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s in action and record them on the back of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discuss and share other examples shor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Newton’s Second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net force on an object is equal to the product of its acceleration and its mas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Force =mass x acceler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015-FFCF-4E2E-B2E9-A0A6A8A51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LAW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304560" y="4309920"/>
            <a:ext cx="1523880" cy="254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52480" y="3146400"/>
            <a:ext cx="7391520" cy="371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219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ORCE = MASS X ACCEL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In other word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g things need more force to move and sto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Little things can accelerate easier than big thing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96C-D5ED-447B-BAAC-6AD7ADDC65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Newton’s Second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et force on an object is equal to the product of its acceleration and its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Force =mass x accele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47E-B15E-441A-94F9-8DADDD436F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1:36:59Z</dcterms:created>
  <dc:creator>krmihal</dc:creator>
  <dc:description/>
  <dc:language>en-US</dc:language>
  <cp:lastModifiedBy>krmihal</cp:lastModifiedBy>
  <dcterms:modified xsi:type="dcterms:W3CDTF">2010-05-11T11:37:18Z</dcterms:modified>
  <cp:revision>1</cp:revision>
  <dc:subject/>
  <dc:title>Slide 1</dc:title>
</cp:coreProperties>
</file>